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5A6-B387-4B8F-B077-742F4731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E04-5A06-4557-B4FB-AA81184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43A-B0AB-4E93-A026-20E60A5E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D02-A864-4F1E-B31F-882FFF0B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FD9-44F1-4187-9145-56438D7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6F0E-1C8F-4FBD-AE51-EF9DA56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4D13-B597-4EF7-AF52-90CF233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5DEC-4D5E-401F-BB57-871918E8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A43E-8DDE-47BB-9E44-D24C9CC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D933-0D98-4ED5-90BC-3275B4BE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F3B-0236-4208-8B96-1125583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67A-42DC-4FC7-9EE4-D8ACC75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24B6-1CFD-469E-AF48-A9AC56B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B135-1237-41D3-9DFF-A1FB900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FB28-DDD4-430C-8A30-B2B2301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7F0B-D67A-4AD0-9497-727A4D5E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C614-E01A-48C0-960E-219E61CB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52E-7CBC-4674-A5D7-2109EFA8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0D0-B15D-4BCA-AB10-0F8EBEC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F4C-BC44-42CD-8653-1AE549F4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C78-CDB9-4EC2-B6B2-AC8FAAC1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111-8420-4C35-9DBF-655408F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111-E535-4D8C-A816-99C68CF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845-5C2B-4809-B6AF-D7C887A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D140-85EB-4B85-AEE8-561B212E0E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A729-0147-4C0E-A29D-F5669C0BB2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"/>
          <p:cNvSpPr/>
          <p:nvPr/>
        </p:nvSpPr>
        <p:spPr>
          <a:xfrm>
            <a:off x="1618560" y="1879560"/>
            <a:ext cx="590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2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ware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date date:2021/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535040" y="2825640"/>
            <a:ext cx="5695920" cy="21528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4"/>
          <p:cNvSpPr/>
          <p:nvPr/>
        </p:nvSpPr>
        <p:spPr>
          <a:xfrm>
            <a:off x="1468440" y="573120"/>
            <a:ext cx="60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1Moh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阻必须要加，否则起振不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须要短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晶体必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"/>
          <p:cNvSpPr/>
          <p:nvPr/>
        </p:nvSpPr>
        <p:spPr>
          <a:xfrm>
            <a:off x="492120" y="552600"/>
            <a:ext cx="81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区域范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固定的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必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；一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选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；如果不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需要加电平转换，参考如右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注意此区域内数据线不能映射，因此需要严格保证线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387360" y="2111400"/>
            <a:ext cx="5575320" cy="2978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"/>
          <p:cNvPicPr/>
          <p:nvPr/>
        </p:nvPicPr>
        <p:blipFill>
          <a:blip r:embed="rId2"/>
          <a:stretch/>
        </p:blipFill>
        <p:spPr>
          <a:xfrm>
            <a:off x="4322880" y="4192560"/>
            <a:ext cx="42926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843120" y="561960"/>
            <a:ext cx="74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由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速率较高，如在下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务必注意控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常数不能太大，否则引起信号质量问题，导致读写问题，必须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8V SPI 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843120" y="1655640"/>
            <a:ext cx="703080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833400" y="561960"/>
            <a:ext cx="74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成了三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bank A/B/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注意组内互联，组件独立的原则，例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_0 ~ IO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平必须是一致的；软件设置要和硬件对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区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保证逻辑电平相同的情况下可以自由映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" descr=""/>
          <p:cNvPicPr/>
          <p:nvPr/>
        </p:nvPicPr>
        <p:blipFill>
          <a:blip r:embed="rId1"/>
          <a:stretch/>
        </p:blipFill>
        <p:spPr>
          <a:xfrm>
            <a:off x="255600" y="2357280"/>
            <a:ext cx="3930480" cy="3848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4186080" y="2357280"/>
            <a:ext cx="4927680" cy="17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"/>
          <p:cNvSpPr/>
          <p:nvPr/>
        </p:nvSpPr>
        <p:spPr>
          <a:xfrm>
            <a:off x="843120" y="561960"/>
            <a:ext cx="74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Vcore 0.9V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流较大，峰值可以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走线宽度尽量宽，退耦电容尽量保证数量和放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电时序要求，可以参考开发板同时上电，或者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电，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2276640" y="2174760"/>
            <a:ext cx="37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"/>
          <p:cNvSpPr/>
          <p:nvPr/>
        </p:nvSpPr>
        <p:spPr>
          <a:xfrm>
            <a:off x="843120" y="561960"/>
            <a:ext cx="74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Boo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默认上拉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对应的高电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增加复位监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保证复位质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2058840" y="2411280"/>
            <a:ext cx="5024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1690560" y="2087640"/>
            <a:ext cx="5500800" cy="4322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5"/>
          <p:cNvSpPr/>
          <p:nvPr/>
        </p:nvSpPr>
        <p:spPr>
          <a:xfrm>
            <a:off x="743040" y="7524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usb2u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下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p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短路，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v3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烧写控制信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N/BOO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计可以参考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843120" y="561960"/>
            <a:ext cx="74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II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忘记加上拉电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接口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待补充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06T12:04:42Z</dcterms:created>
  <dc:creator>Travel</dc:creator>
  <dc:description/>
  <dc:language>en-US</dc:language>
  <cp:lastModifiedBy>FAE</cp:lastModifiedBy>
  <dcterms:modified xsi:type="dcterms:W3CDTF">2021-02-03T08:32:5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